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A2780-D743-4807-99A4-1725C1EC7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E3BCD-4FC3-4298-9813-853853C1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8FAC-E603-42C4-8EE9-D32B124C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EFB04-34E7-444B-9703-837177C31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5213-242C-446A-843C-496E637A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79F3-C549-47FB-AEC7-CB6C8BEB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DC51-B3AB-4F4E-8DD2-AB96B98A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FF1B-BB86-46E9-896F-CBF991D11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64A7-2E67-47DB-B709-9672263A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B800-19D5-4033-ACE7-44713340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03C7-E793-4B97-BB37-6782A333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E14B7-6030-416B-9DA1-3A050845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67A5-55D6-4252-A4D1-529D5247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4DE18-4CD7-4B88-BB48-3E4ED8E6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CE0FE-63C1-420D-8F04-A1D47A01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D9B50-6B53-4424-BF01-79B6BBFFD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DC42E-DD9D-47AA-BBBE-906930B0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AC14-D8B9-4ADE-83FB-67EC7D42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1C296-B2A8-4893-9BC2-188DD0A9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10D86-5C2D-49ED-AA29-A8863FEB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A4A3E-5C34-4EC3-B447-F05620293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0956-F9CD-4A41-BD5E-8BB71485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BB0AB-FFD3-4532-8F7B-FB9F437C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BDCA5-E31A-499E-A9DE-44DC18ED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93F5-E38E-41FA-8D6D-8F72256E02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C78FB-151A-48DD-8CE4-C898B7637595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5E339-07BF-496A-BBCF-7A3D9CC48A36}" type="datetime">
              <a:rPr b="0" lang="en-US" sz="12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AEE3-FC91-4460-A7A8-A94BFA87DB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63" name="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03800" y="2133720"/>
            <a:ext cx="588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"/>
              </a:rPr>
              <a:t>Searching Encyclopedia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516840" y="4371840"/>
            <a:ext cx="1890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KJS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.Duki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638F1-AB87-4073-B8CB-0D9D96CA065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622F8D6-FE23-429C-9829-6BB4639006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0" y="533160"/>
            <a:ext cx="3657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ncyclopedia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 reference source containing information on a variety of topics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  <a:ea typeface="Times New Roman"/>
              </a:rPr>
              <a:t>.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1380960" cy="17683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43800" y="3657600"/>
            <a:ext cx="1374840" cy="1812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6781680" y="533520"/>
            <a:ext cx="1384560" cy="1197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228600" y="4038480"/>
            <a:ext cx="3505320" cy="16606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2362320"/>
            <a:ext cx="36576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ing on a particular discipline such as science or hist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2286000"/>
            <a:ext cx="365760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General encycloped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vide basic information on all top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ually in many volu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6019920" y="4191120"/>
            <a:ext cx="1425600" cy="180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3244F-E4BD-486F-BA14-7CC0D5CC4BF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45214273-237F-42B0-BC85-9674283DCC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76520" y="3045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How are information materials in encyclopedias organized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ics are usually arranged i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lphabetical or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encyclopedias are arranged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y subj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l encyclopedias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the b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cyclopedias containing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re then one volu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ave an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ex at the b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last volume in the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subject encyclopedi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ually have a 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contents pag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gloss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89AE2-43D1-4139-93F1-CDB7F8960F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E36BE25-C319-4C0F-A154-8D54ADF53E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1080" y="304560"/>
            <a:ext cx="6477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ff66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261792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590920" y="2057400"/>
            <a:ext cx="293184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2596320" y="914400"/>
            <a:ext cx="329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ubject encyclop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495680" y="1828800"/>
            <a:ext cx="2797200" cy="3733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6095880" y="1219320"/>
            <a:ext cx="2813040" cy="376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F10B-74CD-4267-8B89-ACF89F1AA7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3D829EED-4113-4202-9813-63D646BEA3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47920" y="83772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"/>
              </a:rPr>
              <a:t>How do we search encyclopedias 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70106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wsing through p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earching Encyclopedia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27324-718E-45FA-A3BC-CDDFFE7BDD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1312D94-F1C9-4315-9D7E-EA76DF107A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7T01:47:51Z</dcterms:created>
  <dc:creator>Zvjezdana Dukic</dc:creator>
  <dc:description/>
  <dc:language>en-US</dc:language>
  <cp:lastModifiedBy>Dana</cp:lastModifiedBy>
  <dcterms:modified xsi:type="dcterms:W3CDTF">2007-03-26T01:33:27Z</dcterms:modified>
  <cp:revision>71</cp:revision>
  <dc:subject/>
  <dc:title>Printed Information Resources</dc:title>
</cp:coreProperties>
</file>